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CCF-4C95-4201-9576-013AC43E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75D-3E29-443C-90FB-97873C60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DC9-5E68-4F59-96FD-BD63553C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D98-2FBB-4635-934F-19642411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F280-36CD-4ACD-BBC8-CE968FDB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CEAA-0E40-4416-B5CB-B07E1086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E757-7C23-4124-9EF8-E5E9AF42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4F51-9ECD-4E27-BDD0-3A153AA0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CE19-5F84-405D-ADFE-12C91E55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9BDF-8708-4EF3-9E8D-56F349A5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BA8C-5BC3-45C0-8DC1-79836C61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3E0-F297-4494-B627-B343E3B7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25A0-B3E5-439E-8FFE-438399E1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31BD-14F0-4717-B10A-2853602F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343A-4B20-451B-B4BF-1BA8638D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A540-B287-4605-BB72-B2FE59CA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F194-9E52-4644-B0BE-74F0A337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8B0-92A6-4CA1-91B0-452D9749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4DD-B9CD-4B72-92FA-7268DE58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6EF-EB63-4416-88C6-4BC962C4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2D7-315B-431A-9A59-F0066DE7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76D-16F0-4EBC-ADAD-A8AD9F16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F99-EF38-4FA1-8AE2-6BEE1F29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61B-2208-49FC-815E-EE438814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B48D-97CF-40DC-B383-C5D5884FD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5A00-BCC7-45BF-893B-6EC18F67B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бенности развития современной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временное научное знание признает в качестве своего фундамента следующие принцип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систем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самоорганизац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историч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глобальный эволюциониз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организация (по Пригож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676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результате данных спонтанных изменений и отношений (флуктуаций) существующие связи между элементами материи изменяются, а также появляются новые связи – материя приобретает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«диссипативную структуру»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которая отличается неустойчивостью, открытостью, притоком энергии и вещества извн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организация (по Пригож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6985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состоянии крайней неустойчивости диссипативная структура переходит в одно из возможных устойчивых состояний. Будущее состояние предсказать невозмож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амоорганизация – гигантская коллективная флуктуация, которая не подчиняется законам вероят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организация (по Пригож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920" y="1916280"/>
            <a:ext cx="7634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момент перехода элементы системы ведут себя коррелированно, хотя до этого пребывали в хаотическом движении (порядок из хаоса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очка бифуркации – критическое значение параметров системы, при которых возможен переход системы в новое качест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организация (по Пригож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634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еномен бифуркации вводит в физику элемент исторического подх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альнейшее развитие возможно по двум варианта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«диссипативная структура»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укрепляетс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окончательно превращается в новый вид матери, но только при условии притока энергии из внешней сред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организация (по Пригож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«диссипативная структура»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распадаетс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гибне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либо в результате внутренней слабости, неестественности, непрочности новых связей, либо из-за отсутствия притока энергии из внешней ср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й эволюцио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561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онцепции глобального эволюционизма Вселенная представляется в качестве развивающегося во времени природного целог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я история Вселенной от "Большого взрыва" до возникновения человечества рассматривается как единый процесс, в котором космический, химический, биологический и социальный типы эволюции имеют генетическую и структурную преемствен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й эволюциониз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7280" y="1989000"/>
            <a:ext cx="64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лобальный эволюционизм представляет собой синтез 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системног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эволюционног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одхо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истемный подход предполагает, прежде всего, выявление целостности исследуемой системы, ее взаимосвязей с окружающей средой, анализ в рамках целостной системы свойств составляющих ее элементов и их взаимосвязей между соб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ный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 системой обычно понимают некое упорядоченное множество взаимосвязанных элемент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ффект системности обнаруживается в появлении у целостной системы новых свойств, возникающих в результате взаимодействия элемент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селенная - наиболее крупная из известных нам систем, состоящая из огромного множества элементов (подсистем) разного уровня сложности и упорядочен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волюционный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7489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тверждение концепции глобального эволюционизма связано с расширением границ эволюционного подхода, принятого в биологической и социальных наука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ереход к биологическому и от биологического к социальному миру, можно объяснить допуская историчность и других систе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вод: все другие системы (помимо биологической и социальной) сформировались в результате эволю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й эволюцио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69138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тверждению глобального эволюционизма способствовали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4164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ория нестационарной Вселенной (см теорию Большого взрыва и расширяющейся вселенной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4164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нергетика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4164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нцепция биосферы и ноосфер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систем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02920" y="1904760"/>
            <a:ext cx="70563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Системное познани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преобразование мира предполага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ссмотрение объекта деятельности как ограниченного множества взаимодействующих элем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ределение состава, структуры и организации элементов и частей системы, связей между н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6360" y="1905120"/>
            <a:ext cx="7416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ория биологической эволюции. Концепция биосферы и но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дин из создателей - 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Владимир Иванович Вернадский (1863-1945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иосферой именуют область существования ныне живущих организмов. Границы биосферы являются и границами распространения жизни на Земле. Биосфера включает в себя вещество и пространство и все живые организ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31640" y="1916280"/>
            <a:ext cx="70563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35964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иосфера представляет собой целостную систему, обладающую способностью к эволю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5964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жизнь - целостный эволюционный процесс, включенный в качестве особой составляющей в космическую эволюц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5964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рнадский утверждает, что наблюдается переход биосферы в новое состояние - в ноосферу под действием новой геологической силы, научной мысли человече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47640" y="1905120"/>
            <a:ext cx="7345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оосфера («мыслящая оболочка», сфера разума) - высшая стадия развития биосферы. Это «сфера взаимодействия природы и общества, в пределах которой разумная человеческая деятельность становится главным, определяющим фактором развития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7561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92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еловек мощная геологическая сила, оказывающая влияние на ход биогеохимических и других процессов в охваченной ее воздействием среде Земли и околоземном пространств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ановление ноосферы «есть не случайное явление на нашей планете», а «природное явление, резко материально проявляющееся в своих следствиях в окружающей человека среде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феры взаимодействия науки и нравственност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соотношение науки и ученых с применением их открытий в практической повседневной жизн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продолжать ли исследования той области реальности, познание законов которой может нанести вред отдельным людям и человечеству в цел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брать ли на себя ответственность за использование результатов открытий «во зло» - для разрушения, убийства, манипулирования сознанием и жизн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феры взаимодействия науки и нравственност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848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внутринаучная этика, т.е. те нормы, ценности и правила, которые регулируют поведение ученых в рамках их собственного сообщества (объективность, честность, порядочность, способность к научному диалогу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проблемы, с одной стороны, взаимодействия науки с сопредельными областями знания (столкновение с искусством, науками, построенными на других методологических приемах и проч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взаимодействие теории с экспериментальной областью в самой науке (напр, вопрос об экспериментах над животным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циентизм и антисциентизм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6985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Arial"/>
              </a:rPr>
              <a:t>Сциентиз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- концепция, которая абсолютизирует роль науки в системе культуры и идейной жизни общества. Возник в конце XIX- начале XX в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циентизм не учитывает сложность общественной жизн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Arial"/>
              </a:rPr>
              <a:t>Антисциентиз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утверждает ограниченность возможностей науки в решении коренных проблем человеческого существования, говорит о враждебности науки человеку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систем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7489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явление внешних связей систем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ределение функции сис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наружение на этой основе закономерностей и тенденций развития сис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итог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Систем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бладает признаком </a:t>
            </a: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целостност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соединяясь в единое целое, части образуют нечто обладающее качествами, не сводимыми к качествам отдельных элем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ть к синерге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6360" y="1905120"/>
            <a:ext cx="7416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Проблема энтроп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ассический подход (19 в.) - материя стремится к исходному равновесию, (энергетически - хаос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Энтроп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мера беспорядка системы. «Теплота не переходит самопроизвольно от холодного тела к более горячему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ть к синерге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6000" y="1905120"/>
            <a:ext cx="6767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9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«При самопроизвольных процессах в системах, имеющих постоянную энергию, энтропия всегда возрастает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т.е. состоящая из некоторого множества частиц изолированная (с постоянной энергией) система стремится перейти в состояние с наименьшей упорядоченностью движения частиц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ть к синерге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905120"/>
            <a:ext cx="80661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ксимальная энтропия означает полное термодинамическое равновесие, что эквивалентно полному хаос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блемы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возникла сама Вселенна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объяснить биологическую эволюцию (рост порядка и сложности)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аковы поводы для появления синергет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организация (по Хаке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1640" y="191592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Синергети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рмин буквально означает кооперативность, сотрудничество, взаимодействие различных элементов 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ает системы, состоящие из многих подсисте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сс самоорганизации простых систе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организация (по Хаке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6840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ребования к объекту изучения в синергетик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Открытость – обязательный обмен энергией и (или) веществом с окружающей сред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Существенная неравновес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) Выход из критического состояния скачком – переходом в качественно новое состояние с более высоким уровнем упорядочен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организация (по Пригож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1640" y="191592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терия имеет способность к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самоорганиза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созданию, совершенствованию, воспроизводству самой себя без участия внешних си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общей формой внутренних изменений, является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флуктуац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постоянно присущие материи случайные колебания и отклон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9:00:50Z</dcterms:created>
  <dc:creator>Владас</dc:creator>
  <dc:description/>
  <dc:language>en-US</dc:language>
  <cp:lastModifiedBy>Владас</cp:lastModifiedBy>
  <dcterms:modified xsi:type="dcterms:W3CDTF">2009-04-16T13:59:16Z</dcterms:modified>
  <cp:revision>141</cp:revision>
  <dc:subject/>
  <dc:title>Слайд 1</dc:title>
</cp:coreProperties>
</file>